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115C-E9BC-43E5-B0FB-F00C23AD53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106-70B1-42E1-AF42-86056642B9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5A69-04A8-4D6D-8135-A05BD7A4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4E9-B780-4261-8351-E9304F1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EC6-B326-4549-AC8B-752DA548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000-8DCD-420E-A9C5-93CEED81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792-8E42-40E6-BD9B-D54CB1D7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5BC-23A1-4E97-838C-B7AA07D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0BF-1885-4F4E-BEAF-9C08F04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06A-A14E-4E73-B181-7464624A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DA3-2FEA-4703-977D-22B8BC9D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680-4D3F-4620-A855-DBCA1B1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E27-2AA6-47C2-90A6-B58A500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FBC-B1F8-45BC-A18E-F405718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CFD-CD23-4A0A-BB0B-03143FB5E27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2771640" y="243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问题解决（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635280" y="3357720"/>
            <a:ext cx="518472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187280" y="4149720"/>
            <a:ext cx="6409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税就是存款得到的利息国家要按一定的比例扣除。利息税于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取消了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利息税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6732720" y="2276640"/>
            <a:ext cx="812520" cy="1392120"/>
          </a:xfrm>
          <a:prstGeom prst="rect">
            <a:avLst/>
          </a:prstGeom>
          <a:ln w="0">
            <a:noFill/>
          </a:ln>
        </p:spPr>
      </p:pic>
      <p:grpSp>
        <p:nvGrpSpPr>
          <p:cNvPr id="115" name="组合 10"/>
          <p:cNvGrpSpPr/>
          <p:nvPr/>
        </p:nvGrpSpPr>
        <p:grpSpPr>
          <a:xfrm>
            <a:off x="2771640" y="2133720"/>
            <a:ext cx="3168720" cy="522000"/>
            <a:chOff x="2771640" y="2133720"/>
            <a:chExt cx="3168720" cy="522000"/>
          </a:xfrm>
        </p:grpSpPr>
        <p:sp>
          <p:nvSpPr>
            <p:cNvPr id="116" name="Text Box 7"/>
            <p:cNvSpPr/>
            <p:nvPr/>
          </p:nvSpPr>
          <p:spPr>
            <a:xfrm>
              <a:off x="2771640" y="213372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果要计利息税呢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标注 19"/>
            <p:cNvSpPr/>
            <p:nvPr/>
          </p:nvSpPr>
          <p:spPr>
            <a:xfrm>
              <a:off x="2771640" y="2152800"/>
              <a:ext cx="3168720" cy="502920"/>
            </a:xfrm>
            <a:prstGeom prst="wedgeRoundRectCallout">
              <a:avLst>
                <a:gd name="adj1" fmla="val 64078"/>
                <a:gd name="adj2" fmla="val -1111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直接连接符 21"/>
          <p:cNvSpPr/>
          <p:nvPr/>
        </p:nvSpPr>
        <p:spPr>
          <a:xfrm>
            <a:off x="4427640" y="256536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11"/>
          <p:cNvGrpSpPr/>
          <p:nvPr/>
        </p:nvGrpSpPr>
        <p:grpSpPr>
          <a:xfrm>
            <a:off x="2340000" y="2852640"/>
            <a:ext cx="2952720" cy="520560"/>
            <a:chOff x="2340000" y="2852640"/>
            <a:chExt cx="2952720" cy="520560"/>
          </a:xfrm>
        </p:grpSpPr>
        <p:sp>
          <p:nvSpPr>
            <p:cNvPr id="120" name="Text Box 7"/>
            <p:cNvSpPr/>
            <p:nvPr/>
          </p:nvSpPr>
          <p:spPr>
            <a:xfrm>
              <a:off x="2340000" y="28526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什么是利息税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圆角矩形标注 23"/>
            <p:cNvSpPr/>
            <p:nvPr/>
          </p:nvSpPr>
          <p:spPr>
            <a:xfrm>
              <a:off x="2340000" y="2852640"/>
              <a:ext cx="2520720" cy="504720"/>
            </a:xfrm>
            <a:prstGeom prst="wedgeRoundRectCallout">
              <a:avLst>
                <a:gd name="adj1" fmla="val 42138"/>
                <a:gd name="adj2" fmla="val -78856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1454040" cy="23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25" name="组合 14"/>
          <p:cNvGrpSpPr/>
          <p:nvPr/>
        </p:nvGrpSpPr>
        <p:grpSpPr>
          <a:xfrm>
            <a:off x="2556000" y="2492280"/>
            <a:ext cx="3024000" cy="1441440"/>
            <a:chOff x="2556000" y="2492280"/>
            <a:chExt cx="3024000" cy="1441440"/>
          </a:xfrm>
        </p:grpSpPr>
        <p:sp>
          <p:nvSpPr>
            <p:cNvPr id="126" name="Text Box 7"/>
            <p:cNvSpPr/>
            <p:nvPr/>
          </p:nvSpPr>
          <p:spPr>
            <a:xfrm>
              <a:off x="2628000" y="2546280"/>
              <a:ext cx="295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果要计利息税，那到期时我的税后利息是多少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圆角矩形标注 12"/>
            <p:cNvSpPr/>
            <p:nvPr/>
          </p:nvSpPr>
          <p:spPr>
            <a:xfrm>
              <a:off x="2556000" y="2492280"/>
              <a:ext cx="2952000" cy="1441440"/>
            </a:xfrm>
            <a:prstGeom prst="wedgeRoundRectCallout">
              <a:avLst>
                <a:gd name="adj1" fmla="val 70648"/>
                <a:gd name="adj2" fmla="val -17953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116000" y="4005360"/>
            <a:ext cx="6480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后利息＝本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(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利息税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340000" y="4586400"/>
            <a:ext cx="4896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×5.40%×3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124000" y="509112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.6×3×9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95640" y="5605560"/>
            <a:ext cx="143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1.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067280" y="5605560"/>
            <a:ext cx="3313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应得的税后利息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1.5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258920" y="21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计算利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187280" y="3789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怎样计算税后利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258920" y="2997360"/>
            <a:ext cx="4825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116000" y="4587840"/>
            <a:ext cx="6480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税后利息＝本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(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利息税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26920" y="1989000"/>
            <a:ext cx="7345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一议：根据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利率表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存“整存整取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怎样存获得利息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49080" cy="1049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505080" cy="93024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19"/>
          <p:cNvGrpSpPr/>
          <p:nvPr/>
        </p:nvGrpSpPr>
        <p:grpSpPr>
          <a:xfrm>
            <a:off x="2340000" y="2924280"/>
            <a:ext cx="1800360" cy="433440"/>
            <a:chOff x="2340000" y="2924280"/>
            <a:chExt cx="1800360" cy="433440"/>
          </a:xfrm>
        </p:grpSpPr>
        <p:sp>
          <p:nvSpPr>
            <p:cNvPr id="145" name="Text Box 7"/>
            <p:cNvSpPr/>
            <p:nvPr/>
          </p:nvSpPr>
          <p:spPr>
            <a:xfrm>
              <a:off x="2340000" y="292428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年一年地存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标注 13"/>
            <p:cNvSpPr/>
            <p:nvPr/>
          </p:nvSpPr>
          <p:spPr>
            <a:xfrm>
              <a:off x="2340000" y="2924280"/>
              <a:ext cx="1800360" cy="43344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0"/>
          <p:cNvGrpSpPr/>
          <p:nvPr/>
        </p:nvGrpSpPr>
        <p:grpSpPr>
          <a:xfrm>
            <a:off x="4500720" y="3213000"/>
            <a:ext cx="1800000" cy="432000"/>
            <a:chOff x="4500720" y="3213000"/>
            <a:chExt cx="1800000" cy="432000"/>
          </a:xfrm>
        </p:grpSpPr>
        <p:sp>
          <p:nvSpPr>
            <p:cNvPr id="148" name="Text Box 7"/>
            <p:cNvSpPr/>
            <p:nvPr/>
          </p:nvSpPr>
          <p:spPr>
            <a:xfrm>
              <a:off x="4500720" y="321300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直接存五年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标注 15"/>
            <p:cNvSpPr/>
            <p:nvPr/>
          </p:nvSpPr>
          <p:spPr>
            <a:xfrm>
              <a:off x="4500720" y="3213000"/>
              <a:ext cx="1800000" cy="432000"/>
            </a:xfrm>
            <a:prstGeom prst="wedgeRoundRectCallout">
              <a:avLst>
                <a:gd name="adj1" fmla="val 59435"/>
                <a:gd name="adj2" fmla="val -29773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 Box 7"/>
          <p:cNvSpPr/>
          <p:nvPr/>
        </p:nvSpPr>
        <p:spPr>
          <a:xfrm>
            <a:off x="971640" y="3716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195640" y="3789360"/>
            <a:ext cx="3889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332000" y="414972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年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×4.14%×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.5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332000" y="450864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年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6.56×4.14%×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.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332000" y="486900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年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33.5×4.14%×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.9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332000" y="52293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四年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1.45×4.14%×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.69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32000" y="558972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五年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0.14×4.14%×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.4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55640" y="5956200"/>
            <a:ext cx="7848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息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.5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.2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.95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.69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.4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.9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116000" y="278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2340000" y="2852640"/>
            <a:ext cx="4896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332000" y="3500280"/>
            <a:ext cx="518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息：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×5.85%×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987640" y="4149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.9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312920" y="5030640"/>
            <a:ext cx="460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直接存五年获得利息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900000" y="206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准备把积攒下来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存入银行，定期两年，如果年利率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68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不计利息税，那么两年后可得利息和本金共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97164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627280" y="3429000"/>
            <a:ext cx="453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987640" y="386064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0×4.68%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700360" y="422100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7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700360" y="465300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34(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871640" y="5478480"/>
            <a:ext cx="360036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两年后可得利息和本金共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3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619280" y="5013360"/>
            <a:ext cx="482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3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55640" y="198900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奶奶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打算存入银行两年，有两种储蓄方式：一、整存整取两年期，年利率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7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二、整存整取一年期，年利率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0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第一年到期后，把本金和利息取出来合起来再存一年。请你算一算，王奶奶选择哪种方式分划算（不计利息税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826920" y="407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484360" y="4156200"/>
            <a:ext cx="5759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，求出两种方式实际得到的利息，再进行比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00000" y="19731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908000" y="2060640"/>
            <a:ext cx="5543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存整取两年期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340000" y="2538360"/>
            <a:ext cx="5761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×3.75%×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908000" y="289872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存整取一年期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268360" y="3330720"/>
            <a:ext cx="4464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×3.0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692360" y="5425920"/>
            <a:ext cx="43196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选择整存整取两年期这种方式储蓄更划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908000" y="3762360"/>
            <a:ext cx="6193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.0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4.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2050920" y="4194000"/>
            <a:ext cx="482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4.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4.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08000" y="4653000"/>
            <a:ext cx="6480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4.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所以选择整存整取两年期获得的利息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1924200" y="2066760"/>
            <a:ext cx="52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李叔叔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民币，请你帮李叔叔算一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理二年定期存款（年利率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7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到期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可以取出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7164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340000" y="3500280"/>
            <a:ext cx="554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92360" y="40053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×3.75%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76720" y="45147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7.5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348000" y="5029200"/>
            <a:ext cx="2016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800360" y="5522760"/>
            <a:ext cx="511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可获利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"/>
          <p:cNvSpPr/>
          <p:nvPr/>
        </p:nvSpPr>
        <p:spPr>
          <a:xfrm rot="18297600">
            <a:off x="5592600" y="4843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2249640" y="2214720"/>
            <a:ext cx="444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析原因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道题问的是一共可以取出多少钱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李叔叔存在银行里的钱除了产生的利息外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本金，而这两部钱都是可以取出的。所以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解答上来看，这道题不够完善，还要将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金加上，才是一共可以取出的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1484280" y="1628640"/>
            <a:ext cx="2008080" cy="1405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" descr=""/>
          <p:cNvPicPr/>
          <p:nvPr/>
        </p:nvPicPr>
        <p:blipFill>
          <a:blip r:embed="rId2"/>
          <a:stretch/>
        </p:blipFill>
        <p:spPr>
          <a:xfrm>
            <a:off x="2762280" y="2523960"/>
            <a:ext cx="4046400" cy="2206800"/>
          </a:xfrm>
          <a:prstGeom prst="rect">
            <a:avLst/>
          </a:prstGeom>
          <a:ln w="0">
            <a:noFill/>
          </a:ln>
        </p:spPr>
      </p:pic>
      <p:sp>
        <p:nvSpPr>
          <p:cNvPr id="53" name="流程图: 资料带 4"/>
          <p:cNvSpPr/>
          <p:nvPr/>
        </p:nvSpPr>
        <p:spPr>
          <a:xfrm>
            <a:off x="2700360" y="2349360"/>
            <a:ext cx="4032360" cy="1871640"/>
          </a:xfrm>
          <a:prstGeom prst="flowChartPunchedTape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1924200" y="2066760"/>
            <a:ext cx="52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李叔叔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民币，请你帮李叔叔算一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办理二年定期存款（年利率为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7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到期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可以取出多少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97164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340000" y="3500280"/>
            <a:ext cx="554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492360" y="40053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×3.75%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276720" y="45147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7.5×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348000" y="5029200"/>
            <a:ext cx="2016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800360" y="5877000"/>
            <a:ext cx="5111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可获利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276720" y="5373720"/>
            <a:ext cx="4535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5=537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3"/>
          <p:cNvSpPr/>
          <p:nvPr/>
        </p:nvSpPr>
        <p:spPr>
          <a:xfrm rot="18297600">
            <a:off x="3870000" y="30762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900000" y="1916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若整存整取五年期的年利率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96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利息税不计，小李今年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存入银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存五年定期，到期时可获利息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971640" y="342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340000" y="3500280"/>
            <a:ext cx="5545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492360" y="40053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800×3.96%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3276720" y="451476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.48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348000" y="5029200"/>
            <a:ext cx="2016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752.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725480" y="5538960"/>
            <a:ext cx="5112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可获利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2.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55640" y="2060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文把积攒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存入银行，整存整取一年，准备到期后把利息捐献给“希望工程”支持贫困地区的失学儿童。如果年利率按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0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，到期时小文可以捐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755640" y="38307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484360" y="3949560"/>
            <a:ext cx="5543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635280" y="4514760"/>
            <a:ext cx="3097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×3.00%×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3419640" y="501984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×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492360" y="5533920"/>
            <a:ext cx="1440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364000" y="553392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小文可以捐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826920" y="206064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过这节课的学习，你有什么收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图片 17" descr="男孩-1.gif"/>
          <p:cNvPicPr/>
          <p:nvPr/>
        </p:nvPicPr>
        <p:blipFill>
          <a:blip r:embed="rId1"/>
          <a:stretch/>
        </p:blipFill>
        <p:spPr>
          <a:xfrm>
            <a:off x="6659640" y="4797360"/>
            <a:ext cx="1297080" cy="127332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19" descr="女孩-2.gif"/>
          <p:cNvPicPr/>
          <p:nvPr/>
        </p:nvPicPr>
        <p:blipFill>
          <a:blip r:embed="rId2"/>
          <a:stretch/>
        </p:blipFill>
        <p:spPr>
          <a:xfrm>
            <a:off x="468360" y="2421000"/>
            <a:ext cx="1160280" cy="143964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15"/>
          <p:cNvGrpSpPr/>
          <p:nvPr/>
        </p:nvGrpSpPr>
        <p:grpSpPr>
          <a:xfrm>
            <a:off x="1079640" y="3249720"/>
            <a:ext cx="5796000" cy="971280"/>
            <a:chOff x="1079640" y="3249720"/>
            <a:chExt cx="5796000" cy="971280"/>
          </a:xfrm>
        </p:grpSpPr>
        <p:sp>
          <p:nvSpPr>
            <p:cNvPr id="239" name="竖卷形 13"/>
            <p:cNvSpPr/>
            <p:nvPr/>
          </p:nvSpPr>
          <p:spPr>
            <a:xfrm rot="5400000">
              <a:off x="3492000" y="837000"/>
              <a:ext cx="971280" cy="579600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1331640" y="3501360"/>
              <a:ext cx="5040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利息＝本金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利率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组合 18"/>
          <p:cNvGrpSpPr/>
          <p:nvPr/>
        </p:nvGrpSpPr>
        <p:grpSpPr>
          <a:xfrm>
            <a:off x="1116000" y="4437000"/>
            <a:ext cx="5904000" cy="1044720"/>
            <a:chOff x="1116000" y="4437000"/>
            <a:chExt cx="5904000" cy="1044720"/>
          </a:xfrm>
        </p:grpSpPr>
        <p:sp>
          <p:nvSpPr>
            <p:cNvPr id="242" name="竖卷形 14"/>
            <p:cNvSpPr/>
            <p:nvPr/>
          </p:nvSpPr>
          <p:spPr>
            <a:xfrm rot="16200000">
              <a:off x="3509640" y="2043360"/>
              <a:ext cx="1044720" cy="5832000"/>
            </a:xfrm>
            <a:prstGeom prst="verticalScroll">
              <a:avLst>
                <a:gd name="adj" fmla="val 12500"/>
              </a:avLst>
            </a:prstGeom>
            <a:solidFill>
              <a:srgbClr val="ffffbb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7"/>
            <p:cNvSpPr/>
            <p:nvPr/>
          </p:nvSpPr>
          <p:spPr>
            <a:xfrm>
              <a:off x="1188000" y="4945320"/>
              <a:ext cx="93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利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188000" y="4653000"/>
              <a:ext cx="93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税后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"/>
            <p:cNvSpPr/>
            <p:nvPr/>
          </p:nvSpPr>
          <p:spPr>
            <a:xfrm>
              <a:off x="1764000" y="4803480"/>
              <a:ext cx="52560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本金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利率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时间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(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利息税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5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5"/>
          <p:cNvSpPr/>
          <p:nvPr/>
        </p:nvSpPr>
        <p:spPr>
          <a:xfrm>
            <a:off x="1052640" y="414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利用百分数的有关知识，解决一些与储蓄有关的实际问题，提高解决实际问题的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124000" y="429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合储蓄等活动，学会合理理财，逐步养成不乱花钱的好习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谈话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组合 7"/>
          <p:cNvGrpSpPr/>
          <p:nvPr/>
        </p:nvGrpSpPr>
        <p:grpSpPr>
          <a:xfrm>
            <a:off x="539640" y="2133720"/>
            <a:ext cx="5400720" cy="4049640"/>
            <a:chOff x="539640" y="2133720"/>
            <a:chExt cx="5400720" cy="4049640"/>
          </a:xfrm>
        </p:grpSpPr>
        <p:pic>
          <p:nvPicPr>
            <p:cNvPr id="64" name="Picture 4" descr="new_pa147"/>
            <p:cNvPicPr/>
            <p:nvPr/>
          </p:nvPicPr>
          <p:blipFill>
            <a:blip r:embed="rId1"/>
            <a:stretch/>
          </p:blipFill>
          <p:spPr>
            <a:xfrm>
              <a:off x="539640" y="2133720"/>
              <a:ext cx="540072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9"/>
            <p:cNvSpPr/>
            <p:nvPr/>
          </p:nvSpPr>
          <p:spPr>
            <a:xfrm>
              <a:off x="1099440" y="2428920"/>
              <a:ext cx="1529640" cy="10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70c0"/>
                  </a:solidFill>
                  <a:latin typeface="华文新魏"/>
                  <a:ea typeface="华文新魏"/>
                </a:rPr>
                <a:t>储蓄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0"/>
          <p:cNvSpPr/>
          <p:nvPr/>
        </p:nvSpPr>
        <p:spPr>
          <a:xfrm>
            <a:off x="6156360" y="213372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图片，思考：李阿姨把钱存入银行有什么好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8"/>
          <p:cNvGrpSpPr/>
          <p:nvPr/>
        </p:nvGrpSpPr>
        <p:grpSpPr>
          <a:xfrm>
            <a:off x="468360" y="2708280"/>
            <a:ext cx="8207280" cy="3489480"/>
            <a:chOff x="468360" y="2708280"/>
            <a:chExt cx="8207280" cy="3489480"/>
          </a:xfrm>
        </p:grpSpPr>
        <p:pic>
          <p:nvPicPr>
            <p:cNvPr id="70" name="Picture 6" descr="复件 12"/>
            <p:cNvPicPr/>
            <p:nvPr/>
          </p:nvPicPr>
          <p:blipFill>
            <a:blip r:embed="rId1"/>
            <a:stretch/>
          </p:blipFill>
          <p:spPr>
            <a:xfrm>
              <a:off x="468360" y="2708280"/>
              <a:ext cx="8207280" cy="34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5470200" y="3572640"/>
              <a:ext cx="5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f6f6f"/>
                  </a:solidFill>
                  <a:latin typeface="Calibri"/>
                </a:rPr>
                <a:t>1</a:t>
              </a:r>
              <a:r>
                <a:rPr b="0" lang="zh-CN" sz="1400" spc="-1" strike="noStrike">
                  <a:solidFill>
                    <a:srgbClr val="6f6f6f"/>
                  </a:solidFill>
                  <a:latin typeface="Calibri"/>
                </a:rPr>
                <a:t>年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9"/>
          <p:cNvSpPr/>
          <p:nvPr/>
        </p:nvSpPr>
        <p:spPr>
          <a:xfrm>
            <a:off x="539640" y="21337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李阿姨填写的存单中你能获得什么信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547640" y="2060640"/>
            <a:ext cx="12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利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927000" y="1957320"/>
            <a:ext cx="57636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11280" y="2565360"/>
          <a:ext cx="7921440" cy="365112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  <a:gridCol w="1622520"/>
                <a:gridCol w="1017360"/>
                <a:gridCol w="132084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人民币存款年利率（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利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利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零整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存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零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取取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活期存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利息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按所得利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定活两便：按一年期内定期整存整取其档次利率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折执行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月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403280" y="2276640"/>
            <a:ext cx="1368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算利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1871640" cy="31464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13"/>
          <p:cNvGrpSpPr/>
          <p:nvPr/>
        </p:nvGrpSpPr>
        <p:grpSpPr>
          <a:xfrm>
            <a:off x="2484360" y="2906640"/>
            <a:ext cx="2951280" cy="954000"/>
            <a:chOff x="2484360" y="2906640"/>
            <a:chExt cx="2951280" cy="954000"/>
          </a:xfrm>
        </p:grpSpPr>
        <p:sp>
          <p:nvSpPr>
            <p:cNvPr id="84" name="Text Box 7"/>
            <p:cNvSpPr/>
            <p:nvPr/>
          </p:nvSpPr>
          <p:spPr>
            <a:xfrm>
              <a:off x="2484360" y="290664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整存整取的方式存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年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圆角矩形标注 11"/>
            <p:cNvSpPr/>
            <p:nvPr/>
          </p:nvSpPr>
          <p:spPr>
            <a:xfrm>
              <a:off x="2484360" y="2924640"/>
              <a:ext cx="2951280" cy="936000"/>
            </a:xfrm>
            <a:prstGeom prst="wedgeRoundRectCallout">
              <a:avLst>
                <a:gd name="adj1" fmla="val 69847"/>
                <a:gd name="adj2" fmla="val -25995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16"/>
          <p:cNvGrpSpPr/>
          <p:nvPr/>
        </p:nvGrpSpPr>
        <p:grpSpPr>
          <a:xfrm>
            <a:off x="1908000" y="4778280"/>
            <a:ext cx="2951280" cy="954360"/>
            <a:chOff x="1908000" y="4778280"/>
            <a:chExt cx="2951280" cy="954360"/>
          </a:xfrm>
        </p:grpSpPr>
        <p:sp>
          <p:nvSpPr>
            <p:cNvPr id="87" name="Text Box 7"/>
            <p:cNvSpPr/>
            <p:nvPr/>
          </p:nvSpPr>
          <p:spPr>
            <a:xfrm>
              <a:off x="1908000" y="477828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我攒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钱存入银行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圆角矩形标注 15"/>
            <p:cNvSpPr/>
            <p:nvPr/>
          </p:nvSpPr>
          <p:spPr>
            <a:xfrm>
              <a:off x="1908000" y="4796280"/>
              <a:ext cx="2951280" cy="936360"/>
            </a:xfrm>
            <a:prstGeom prst="wedgeRoundRectCallout">
              <a:avLst>
                <a:gd name="adj1" fmla="val 65018"/>
                <a:gd name="adj2" fmla="val -19810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826920" y="2133720"/>
            <a:ext cx="1311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一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547640" y="2565360"/>
            <a:ext cx="3278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存款方式有哪些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547640" y="342900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利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47640" y="429264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本金 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47640" y="5084640"/>
            <a:ext cx="30956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什么是利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619280" y="3003480"/>
            <a:ext cx="6337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存款方式有零存整取、整存整取、存本取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619280" y="3860640"/>
            <a:ext cx="417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率就是利息与本金的比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619280" y="464328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存入银行的钱叫本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619280" y="5578560"/>
            <a:ext cx="43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取款时银行多付的钱叫做利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14" descr="女孩-2.gif"/>
          <p:cNvPicPr/>
          <p:nvPr/>
        </p:nvPicPr>
        <p:blipFill>
          <a:blip r:embed="rId1"/>
          <a:stretch/>
        </p:blipFill>
        <p:spPr>
          <a:xfrm>
            <a:off x="1042920" y="2349360"/>
            <a:ext cx="11732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1"/>
          <p:cNvGrpSpPr/>
          <p:nvPr/>
        </p:nvGrpSpPr>
        <p:grpSpPr>
          <a:xfrm>
            <a:off x="2700360" y="2133720"/>
            <a:ext cx="3240000" cy="1367280"/>
            <a:chOff x="2700360" y="2133720"/>
            <a:chExt cx="3240000" cy="1367280"/>
          </a:xfrm>
        </p:grpSpPr>
        <p:sp>
          <p:nvSpPr>
            <p:cNvPr id="104" name="Text Box 7"/>
            <p:cNvSpPr/>
            <p:nvPr/>
          </p:nvSpPr>
          <p:spPr>
            <a:xfrm>
              <a:off x="2700360" y="2133720"/>
              <a:ext cx="324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怎样计算利息？这位同学到期时应得的利息是多少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圆角矩形标注 24"/>
            <p:cNvSpPr/>
            <p:nvPr/>
          </p:nvSpPr>
          <p:spPr>
            <a:xfrm>
              <a:off x="2772360" y="2205360"/>
              <a:ext cx="3024000" cy="1295640"/>
            </a:xfrm>
            <a:prstGeom prst="wedgeRoundRectCallout">
              <a:avLst>
                <a:gd name="adj1" fmla="val -61282"/>
                <a:gd name="adj2" fmla="val -10537"/>
                <a:gd name="adj3" fmla="val 16667"/>
              </a:avLst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Text Box 7"/>
          <p:cNvSpPr/>
          <p:nvPr/>
        </p:nvSpPr>
        <p:spPr>
          <a:xfrm>
            <a:off x="1908000" y="3789360"/>
            <a:ext cx="4824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息＝本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利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59280" y="435456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×5.40%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43280" y="4859280"/>
            <a:ext cx="3097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.6×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843280" y="5373720"/>
            <a:ext cx="1441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4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788000" y="5373720"/>
            <a:ext cx="3097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到期时应得的利息是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.8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31:56Z</dcterms:modified>
  <cp:revision>394</cp:revision>
  <dc:subject/>
  <dc:title>幻灯片 1</dc:title>
</cp:coreProperties>
</file>